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01C-F569-4BC1-992F-CFA1D9C9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331-4DB4-4268-9EE1-FBB5DD5D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451-20BA-438E-BC2A-FCE9D648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0AA-0737-4F18-ACC1-555E4D2F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004-61FD-420D-BDFF-CB5F53AB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B83-8E2F-4042-A832-7C5881FC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CCE-0CA4-48DC-9B80-8DB266D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EE6-5901-4E00-B0D6-1780277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0A8-3A8F-40FB-90C7-5080EE37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715-77C5-4458-BC35-93B9E0C6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262-95D8-41A8-BE8A-8C277EC5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409-7336-457F-B60E-70D48A1C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47992B35-4C0A-472C-9215-6CA6F0EC789F}" type="slidenum">
              <a:rPr b="0" lang="en-GB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r Statement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important looping structure in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(initial ;  condition ; increment )</a:t>
            </a:r>
            <a:br>
              <a:rPr sz="2400"/>
            </a:b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   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initi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increm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ops are execut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aluated.  Usually an assignment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aluated.  Usually a relational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alse (i.e. 0),  fall out of the loop (go to step 6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(i.e. nonzero), execute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increm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go back to step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r Statement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24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5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tement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count,x,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c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1. simple counted for loop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count =1; count &lt;=20; count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%d\n", c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2. for loop counting backward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count = 100; count &gt;0; count--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x*=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count=%d x=%d\n", count,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3. for loop counting by 5'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count=0; count&lt;1000; count +=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y=y+coun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4. initialization outside of loop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unt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 ; count &lt; 1000; count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%d ", c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5. very little need be in the for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unt=1; ctd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 ; ctd;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%d ", c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unt++; ctd=count&lt;1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6. compound statements for initialization and increm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x=0, y=100; x&lt;y; x++, y--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%d %d\n", 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1143000"/>
            <a:ext cx="0" cy="6248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r Statement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2880" indent="-36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ing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s (and any other C statement) can go inside the loop of a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rows=10, columns=2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r,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 r=rows ; r&gt;0 ; r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c = columns; c&gt;0; c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X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while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while (condition)</a:t>
            </a:r>
            <a:br>
              <a:rPr sz="20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s as expe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alse (i.e. 0),  loop is exited (go to step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rue (i.e. nonzero),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 ; condition ; )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while (condi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mt;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    stm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exp1; exp2; exp3) stmt;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xp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while(exp2) { stmt; exp3;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do ... while Loop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o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statement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hile (condit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repeat until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-4572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op, but with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at bot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-4572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executes at leas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mantics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go to 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do ... while Loop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get_menu_choice (vo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cho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hoice = get_menu_choice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You chose %d\n",choic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 while(choice!=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simple function get_menu_choic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get_menu_choice 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selectio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1 - Add a Record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2 - Change a Record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3 - Delete a Record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4 - Quit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\nEnter a selection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d", &amp;selecti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 while ( selection&lt;1 || selection&gt;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sele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1143000"/>
            <a:ext cx="0" cy="609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eak and contin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ow of control in any loop can be changed through the use of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exits the loop immed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stopping on conditions not controlled in the loop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x=0; x&lt;10000; x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 x*x % 5==1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... do some more work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terminates if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x*x % 5 =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causes the next iteration of the loop to be started immed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x=0; x&lt;10000; x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x*x % 5 == 1) contin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 "%d ", 1/ (x*x % 5 – 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execute loop when x*x % 5 == 1 (and avoid division by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 for and break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 int mycard=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gu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(;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Guess my card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&amp;gues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(guess==myc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Good guess!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Try again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98120" y="1600200"/>
            <a:ext cx="331848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The notation for(;;) is used </a:t>
            </a:r>
            <a:br>
              <a:rPr sz="2000"/>
            </a:b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to create an infinite for loo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while(1) creates an infinite</a:t>
            </a:r>
            <a:br>
              <a:rPr sz="2000"/>
            </a:b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while loop inst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371240" y="2284560"/>
            <a:ext cx="48006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5120" y="4800600"/>
            <a:ext cx="337824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To get out of an infinite loop</a:t>
            </a:r>
            <a:br>
              <a:rPr sz="2000"/>
            </a:b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like this one, we have to use</a:t>
            </a:r>
            <a:br>
              <a:rPr sz="2000"/>
            </a:b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the break state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66880" y="5332320"/>
            <a:ext cx="335304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witch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9296640" cy="6400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statement is used to do “multiple choic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witch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constant_expr1 :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constant_expr2 :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constant_exprk :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efault :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alu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 jumps to the corresponding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ant_ex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atements after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ant_ex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xecuted until a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go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tatement is encoun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switch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1. Open file.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2. Save file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3. Save as.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4. Quit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Your choice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 &amp;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(a==1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open_fi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if(a==2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ave_fi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if(a==3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ave_a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if(a==4)   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1. Open file.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2. Save file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3. Save as.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4. Quit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Your choice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 &amp;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witc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1: open_file();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2: save_file();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3: save_as();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4: 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efault: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219320"/>
            <a:ext cx="0" cy="609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: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/*  This is a comment 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hould expl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functions (parameters, return values, purp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tricks or things that are not ob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r code does things the what it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umping Out of Nested Loops -- go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98298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will jump to any point of your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nly if it is absolutely necessary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(never in this cour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(;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hile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witch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… : goto finished;    /* finished is a label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inished:    /* Jumped out from the nested loops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2960" y="3276720"/>
            <a:ext cx="339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ver jump into a loop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ver jump backwar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re on Com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d com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i + 1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assign i+1 to the variable i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com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i + 1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increment the loop counter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++ Com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d com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i + 1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assign i+1 to the variable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com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i + 1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increment the loop 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0440" indent="-370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ost general sense, a statement is a part of your program that can be exec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is a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=a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call is also a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"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tatement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a free form language, so you may type the statements in any style you feel comfor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;a--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ine breaks can be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und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s of statements can be combined into one with 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like Ja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Hello,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world! 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 compiler treats the collection of these statements like they are a singl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  stay consistent with how you use white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  put block braces on their own li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kes the code easier to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  line up block braces so that it is easy to find the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ginning and end of a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: spreading a single statement across multiple lines if there is no ne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it on on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f Statement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 if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18000" y="1447920"/>
            <a:ext cx="433836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xecute statement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expression is non-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i.e., it does not have to be exactly 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f Statement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x,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Input an integer value for x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("%d", &amp;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Input an integer value for y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("%d",&amp;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x==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x is equal to y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 if (x &gt;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x is greater than y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x is smaller than y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09-23T00:44:15Z</dcterms:modified>
  <cp:revision>1413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